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040B5-7233-4E28-BFB8-935797915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F0D9-5BB3-44CA-910F-B55578448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A66E-763C-479F-94B5-3BFA3D4CD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4E67F-0552-464A-9F54-1294FE087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3CFD5-F30D-43DF-9C34-CC7BCA47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F59B-CF44-428D-A39F-1620337E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86B39-E05B-48BC-96EF-7B8F7AA4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EA28-4C50-4FEF-9A79-3673769B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33A6-471D-4E3C-8C6E-14843532F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2710-3C3A-459F-840D-511A923B4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0E6E-CE67-4252-BD78-B0F66BE5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6068-2EE9-43CD-BDFF-10559DA4C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3CDB-1858-4BD1-9EDE-31D3F84C1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vin Dav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logo" descr=""/>
          <p:cNvPicPr/>
          <p:nvPr/>
        </p:nvPicPr>
        <p:blipFill>
          <a:blip r:embed="rId1"/>
          <a:stretch/>
        </p:blipFill>
        <p:spPr>
          <a:xfrm>
            <a:off x="3581280" y="685800"/>
            <a:ext cx="1819440" cy="1619280"/>
          </a:xfrm>
          <a:prstGeom prst="rect">
            <a:avLst/>
          </a:prstGeom>
          <a:ln w="0">
            <a:noFill/>
          </a:ln>
        </p:spPr>
      </p:pic>
      <p:pic>
        <p:nvPicPr>
          <p:cNvPr id="44" name="logo" descr=""/>
          <p:cNvPicPr/>
          <p:nvPr/>
        </p:nvPicPr>
        <p:blipFill>
          <a:blip r:embed="rId2"/>
          <a:stretch/>
        </p:blipFill>
        <p:spPr>
          <a:xfrm>
            <a:off x="3657600" y="5029200"/>
            <a:ext cx="181944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our School</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y ro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ui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lass roo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 h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fter school club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Teachers</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Miss Dixon</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Miss Jam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William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Harper</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Jon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Jon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Mathew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Davi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Roberson</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Stone</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Robbin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s King</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day</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e in at 9.00</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work Then we have a assembl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play time we come in and to some more work and we go for dinner after dinner we go out then we come back in then we have p.e and to some work and we Have more work and it is othe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is out</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19:50Z</dcterms:created>
  <dc:creator>Glenboi</dc:creator>
  <dc:description/>
  <dc:language>en-US</dc:language>
  <cp:lastModifiedBy>Glenboi</cp:lastModifiedBy>
  <dcterms:modified xsi:type="dcterms:W3CDTF">2009-09-30T10:21:30Z</dcterms:modified>
  <cp:revision>1</cp:revision>
  <dc:subject/>
  <dc:title>Our School</dc:title>
</cp:coreProperties>
</file>